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3770-48E5-4137-962E-DFAF5AF0A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59FB-664B-418D-91F2-E50E118C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DFB3-5390-4512-96E4-F36687269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3AB0-4B40-4531-9B55-D90D86094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2544-42F6-4821-BED6-D259169B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4406-5EB5-4EE6-BA3C-AD73C887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D8C0-A650-4175-8140-419F6EF2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360B-5199-4917-B76E-C0542C82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28BE-589A-4F18-A645-3CE2EC68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ED36-E32F-46CA-97EB-FD85173A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8CF3-E219-4152-A4AD-F9298981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72B3-2AEC-4C53-9326-FCBBAD20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C7C1-72D3-45DD-97B8-A7DC5E326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Wis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in Rivers U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8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T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, this is a long presentation?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Pro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14375" t="17998" r="13126" b="8002"/>
          <a:stretch/>
        </p:blipFill>
        <p:spPr>
          <a:xfrm>
            <a:off x="0" y="1371600"/>
            <a:ext cx="8839080" cy="5486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791320" y="1905120"/>
            <a:ext cx="16002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2590920"/>
            <a:ext cx="6858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 My Class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get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cent Proficient per Sub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to Expl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S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by Stud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-623" t="11999" r="25624" b="18003"/>
          <a:stretch/>
        </p:blipFill>
        <p:spPr>
          <a:xfrm>
            <a:off x="0" y="137160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m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30001" r="25004" b="6996"/>
          <a:stretch/>
        </p:blipFill>
        <p:spPr>
          <a:xfrm>
            <a:off x="0" y="137160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Over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30001" r="0" b="5999"/>
          <a:stretch/>
        </p:blipFill>
        <p:spPr>
          <a:xfrm>
            <a:off x="0" y="175248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iciency Over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11999" r="23752" b="15211"/>
          <a:stretch/>
        </p:blipFill>
        <p:spPr>
          <a:xfrm>
            <a:off x="76320" y="1447920"/>
            <a:ext cx="9067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23752" t="10000" r="21877" b="21999"/>
          <a:stretch/>
        </p:blipFill>
        <p:spPr>
          <a:xfrm>
            <a:off x="1143000" y="1295280"/>
            <a:ext cx="66294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Distribution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7502" t="13000" r="33126" b="47003"/>
          <a:stretch/>
        </p:blipFill>
        <p:spPr>
          <a:xfrm>
            <a:off x="0" y="1371600"/>
            <a:ext cx="91440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llard.pope</cp:lastModifiedBy>
  <dcterms:modified xsi:type="dcterms:W3CDTF">2009-05-06T06:32:5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